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A8BE0-E35B-4E45-87EF-F6A4AB49734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1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5EF83-3C6B-42FC-9402-247332D02BA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AE315-6664-48D9-94F7-684D771479A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71564-5656-44F9-B36B-C8D2E1884D5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95102-A111-466B-9AAF-5B5B19945C6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D935B-11B7-4D06-9AE8-DCB62ED870E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87588-7BAF-457F-BFC8-78D56BEBE70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49675-4153-4091-8F8E-F689044AF99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3DCC1-AC50-4E08-AEDD-237700B6332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80D21-301E-4FCE-B53D-788951B543A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61A-2267-4400-996C-B2EB0125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3FD-C1BB-4D2D-A946-218D4C93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8E0-0784-4C96-8715-AF0657FC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F78E-7F46-4964-B39C-7C522344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311-4D24-4109-8AC3-4357876F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240-9E50-4E64-BC5C-82A7AFCA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8D9B-A727-403A-857F-1D2A8702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F30-0470-4993-B0BE-E8020ED1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1BF-7AE9-49BE-BD0E-F3D65909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FF8-AFD6-43D0-9199-394A2055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9AC-415C-4CD6-A384-DC1565F6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238C-03C8-42FD-88CA-15A7B7C9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931EC4-5CB7-48D7-BC9B-891744BB74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643200" cy="10414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42200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10T12:01:02Z</dcterms:modified>
  <cp:revision>92</cp:revision>
  <dc:subject/>
  <dc:title>Snímek 1</dc:title>
</cp:coreProperties>
</file>